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jpeg" ContentType="image/jpeg"/>
  <Override PartName="/ppt/media/image7.png" ContentType="image/png"/>
  <Override PartName="/ppt/media/image8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5B728-BF06-42E7-AC23-865E3FAEBC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0ED8F-061C-4F94-9AC6-47CDEA7B2D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184B6-52BA-483D-8712-1923A6B12D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77600-6B86-41BA-A5C3-2C2253C880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13807-60C7-448C-B9B4-956FC35220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8A1E9-1505-46A1-ADA1-0444F43AA8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D7D7C-EF76-48EA-A9A0-556D8BCFAB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9769A-2A06-46CB-BA18-E0A181CD43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EEAA8-9FA3-4C99-817A-B75A7A9AAA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66B6E-17D4-4CAA-8CFB-B765250540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BF206-033F-4723-AF57-306422E35C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63DE1-EA95-4F90-AE0F-6082DA32AF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F6F16-DD42-4329-9B0C-949669B081A3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3520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cryption and Security</a:t>
            </a:r>
            <a:br>
              <a:rPr sz="3200"/>
            </a:br>
            <a:br>
              <a:rPr sz="28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anny Robb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439040" y="3057480"/>
            <a:ext cx="10098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hods of encryp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12400" y="1326960"/>
            <a:ext cx="73486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-key (symmetric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sender and receiver both have a single key that both encrypts and decrypts a document.  Used for bulk d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/Private(Asymmetric) 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keys are required to encrypt and decrypt a document.  The partners publish and exchange the public keys and the private keys remain secret.  Used for key encryptio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hods of encryp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825480" y="993600"/>
          <a:ext cx="7677000" cy="498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993600"/>
                    <a:ext cx="7677000" cy="498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hods of encryp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27120" y="571680"/>
          <a:ext cx="8373960" cy="56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7120" y="571680"/>
                    <a:ext cx="8373960" cy="56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ecure Data Signatur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RR (Non Repudiation of Receip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ifies to the sender that the receiver of a message did receive the messag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Verifies to the sender the integrity of the message receiv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RO (Non Repudiation of Orig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Verifies the identity of the send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Verifies that the contents of the document have not been alter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-INT AS1 and AS2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12400" y="1326960"/>
            <a:ext cx="73486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1 (Applicability Statement 1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es Simple Mail Transfer Protocol (SMTP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ecures/encrypts data with Secure Multipurpose Internet Messaging Extensions (S/MIME) or Pretty Good Privacy (PGP) methods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ed when S/MIME is the only available transport and transactions are relatively sma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2 (Applicability Statement 2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es Hypertext Transfer Protocol or Secured Hypertext Transfer Protocol (HTTP or HTTP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llows object oriented signatures on both object and ses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S2 enabled products: Cyclone, webMethods, TIBCO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ng EDI-INT and encry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Techniq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layered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change encrypt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ital signatur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s of encryp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e Data Sign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-INT: AS1 and A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fini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-INT (EDI over the Internet)  - A set of standards that define a common method for sending EDI messages over the internet.  EDI-INT provides guidelines for encryption, decryption and confirmations of transactions through Message Disposition Notification (MD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ryption - is the transformation of data, using algorithms, into a form that is unreadable by anyone who does not have the key to decrypt the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ecurity Techniques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1 (Applicability Statement 1) - Internet email security that uses SMTP(Simple Mail Transfer Protocol) for delivering S/MIME encrypted trans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2 (Applicability Statement 2) - Internet email security that uses HTTP and HTTP/S for delivering S/MIME encrypted transac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/MIME  (Secure Multipurpose Internet Messaging Extension) - Provides encryption and digital signatures for Internet mail messages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GP (Pretty Good Privacy) - Data security using X.509 or PGP methods for key exchange and management as well as encrypt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ecurity Protocol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FTP (Secure File Transfer Protocol) - enables the encryption of login information and file transfer over FT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PN (Virtual Private Network) - enables private networks to span from the end-user, across a public network (Internet) directly to the  home gateway of choice, another companies Intra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SH (Secure Shell) - establishes a secure tunnel between two systems for enablement of a secure transport layer via encryption, cryptographic host authentication and integrity prote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S (Secure Hypertext Transfer Protocol) - enables the transfer of documents between serv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SL (Secure Socket Layer) - a program layer that secures  the message transmission between two applications. (HTTP and FTP transmission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Internet Layered Architectur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Application message - business purchase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EDI translator - EDI 850 X12 standard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 EDI internet handler - secures the EDI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) SMTP - S/MIME message sent via FTP, HTTP, HTT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5) TCP/IP - Standard internet service trans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Internet Layered Architecture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255680" y="968400"/>
          <a:ext cx="6383520" cy="498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5680" y="968400"/>
                    <a:ext cx="6383520" cy="49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Interchange encryption process - To ensure confidentialit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12400" y="1226880"/>
            <a:ext cx="734868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translator - EDI 850 X12 standard docu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ates the interchange to s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handler - secures the EDI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randomly generates a symmetric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encrypts the interchange with the symmetric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symmetric key is encrypted using the trading partner public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encloses the payload in a S/MIME envel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Sends the S/MIME envelope to the trading partner over the 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handler - receives the secured EDI docu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S/MIME envelope is rem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rading partner uses private key (Asymmetric) to decrypt the received symmetric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symmetric key is used to decrypt the inter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igital signature process - To ensure integrity, authentication and non repudiation of origi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2400" y="1326960"/>
            <a:ext cx="73486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handler - generates a message digest to s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Uses the sender private key (Asymmetric)  to encrypt the message dig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encrypted message digest is included in the S/MIME envel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handler - receives the message dig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encrypted message digest is extracted from the S/MIME envelop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Uses the public key (Asymmetric) of the sender to decrypt the message digest (this is when the sender is identified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Generates a new message digest from the decrypted inter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two message digest are compared to check the integrity of the interchan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cp:lastPrinted>2003-08-27T18:10:21Z</cp:lastPrinted>
  <dcterms:modified xsi:type="dcterms:W3CDTF">2003-09-17T17:51:06Z</dcterms:modified>
  <cp:revision>918</cp:revision>
  <dc:subject/>
  <dc:title>IBM Software Group</dc:title>
</cp:coreProperties>
</file>